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8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9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36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30.pct" ContentType="image/x-pict"/>
  <Override PartName="/ppt/media/image3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B990-C55F-450B-8EA1-D120622E8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arboxylic_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yellowtang.org/chemistry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lifetime-fitness.ca/pages/meet-our-trainers/trainer-tips--nutritiona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phschool.com/science/biology_place/biocoach/bioprop/glucos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mansfield.osu.edu/~sabedon/biol1020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, maltose (malt sugar used in making beer), lactose (in milk)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merthehammer.com/2010/12/04/understanding-ingredient-labels-todays-tip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tokresource.org/tok_classes/biobiobio/biomenu/carbs_lipids_proteins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05/polysacchari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bio1151.nicerweb.com/Locked/media/ch05/polysaccharid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en.wikipedia.org/wiki/Covalent_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nutrition.jbpub.com/resources/chemistryreview9.c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serendip.brynmawr.edu/exchange/wfrankli/mycologydemys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herdaily.com/health/892/the-effects-of-food-additives-and-preservative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homepage.smc.edu/wissmann_paul/anatomy2textbook/phospholipids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medicine-opera.com/2009/07/trans-fats-big-brother-and-sloppy-scie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empseysresolutionfitness.blogspot.ca/2010/09/trans-fat-truth-myth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igiwax.com/wax-basics/overview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lbl.gov/MicroWorlds/Kevlar/KevlarClue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teach.ubc.ca/Bio-industry/Inex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s from: http://en.wikipedia.org/wiki/File:Cholesterol_structure.png and http://commons.wikimedia.org/wiki/File:Testosterone_structure.pn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eautifulactivenourished.com/nutrition/combining-food-for-optimum-digestion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othbrainsandbeauty.com/page/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ee also Figure 2 (p.40)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octortee.com/dsu/tiftickjian/bio100/biol-molecul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academic.pgcc.edu/~ssinex/blt/proteins/proteins.htm</a:t>
            </a:r>
            <a:br>
              <a:rPr sz="300"/>
            </a:b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 show dehydration synthesis in formation of peptide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umass.edu/molvis/workshop/prot1234.ht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bioc208.blogspot.com/2009_11_01_archive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shuttervoice.com/15497/sickle-cell-anemia-awareness-campaign.html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academic.brooklyn.cuny.edu/biology/bio4fv/page/nonpol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itowler.com/taxonomy/term/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e from: http://www.biopoliticaltimes.org/img/original/DNA5.jpg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mun.ca/biology/scarr/Ribose_suga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s (purines &amp; pyrimid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iology.arizona.edu/biochemistry/problem_sets/large_molecules/06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proprofs.com/flashcards/cardshowall.php?title=exam-5-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and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eltina.org/health-dictionary/rna-ribonucleic-acid-definition-func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entchemistry.com/links/bonding/moleculePolari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www.kentchemistry.com/links/bonding/moleculePolari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http://drushapchem.wikispaces.com/C+Chapter+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3E3-E28C-447D-9455-800A100E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A6C-FE9A-406A-B4F1-9D3847B0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5A8-1643-4415-991C-14C949B1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20D-5B9F-43AC-B7DA-99B8CB5C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570-642B-460E-8F11-ACAD9F10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EE5-6CF7-4148-B93D-B03D75E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074-972E-43E3-B68C-D1A93975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036-A973-4A7B-AD30-E780054E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769-D64D-4C57-9118-8BD01261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19B-6729-4F9D-87FF-7AAD4F96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CAF-EF31-4EC4-8585-81C2EE3A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DF4-ED5E-4D39-9652-84755E0B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370-EE89-4E51-9F39-604B85667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yDnnD3fMaU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xF_LK9pnL0" TargetMode="External"/><Relationship Id="rId2" Type="http://schemas.openxmlformats.org/officeDocument/2006/relationships/hyperlink" Target="http://www.youtube.com/watch?v=3xF_LK9pnL0" TargetMode="External"/><Relationship Id="rId3" Type="http://schemas.openxmlformats.org/officeDocument/2006/relationships/hyperlink" Target="http://www.youtube.com/watch?v=3xF_LK9pnL0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-ctkPUUpUc&amp;feature=channel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BI3C - Cellular 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ctional group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specific clusters of atoms that give compounds specific chemical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2554200"/>
            <a:ext cx="38098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 are primarily used by living organisms as a source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65284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type of carbohydrat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saccha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single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glucose, fructose, galact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2062080"/>
            <a:ext cx="3809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nosaccharides may bond together to form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cchar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double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ucrose, lactose, malt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yDnnD3fM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uga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62120" y="1981080"/>
            <a:ext cx="401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s are insoluble in water when they form long chains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sacchar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 called complex carbohydr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tarch, glycogen, cellulose, ch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8320" y="2354400"/>
            <a:ext cx="38098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718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arge molecule that is composed of long chains of repeating subunit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glycogen is a polymer of glucose mon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ch &amp; Glyc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ch and glycogen are forms of energy storage in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for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val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sharing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46680" y="1981080"/>
            <a:ext cx="341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glucose polymer found in cell wa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790720"/>
            <a:ext cx="38098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t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polysaccharide found in the exoskeletons of insects and crustaceans, as well as in mushro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6560" y="3352680"/>
            <a:ext cx="759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ids are used by animals as major energy-storage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ids are insoluble in water and aqueous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05200" y="1981080"/>
            <a:ext cx="369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 main types of lipi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s and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s and 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s and fats are composed of lipid molecule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lyce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iglyceride contains glycerol + 3 fatty aci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youtub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com/watch?v=3xF_LK9pn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648320" y="2446200"/>
            <a:ext cx="3809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ated 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ty acids have only single bonds between carbo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at room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many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play a part in development of clogged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aturated 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fatty acids have one or more double bonds between carbon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ils at room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by some plants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38560" y="1981080"/>
            <a:ext cx="446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 Fa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70080" y="1981080"/>
            <a:ext cx="480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by plants and some animals as waterproof coating (animal fur, plant leav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electrons are not shared equally, the bond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ar covalent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has a partial negative charge in the O-H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87800" y="1981080"/>
            <a:ext cx="31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in structure to triglyce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in the structure of cell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2216160"/>
            <a:ext cx="38098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oids (Stero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d of four carbon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include sex hormones  testosterone and estradiol, and ch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116080"/>
            <a:ext cx="3809880" cy="170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18040" y="4114800"/>
            <a:ext cx="3070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are used for many different functions and structures, but all have the same basic structure: they are polymers of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2657520"/>
            <a:ext cx="3809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20 different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are essential (they cannot be synthesized in the human body and must be obtained from our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276372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ptide Bond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Animation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w-ctkPUUpUc&amp;feature=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5160" y="1981080"/>
            <a:ext cx="48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2409840"/>
            <a:ext cx="7772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tei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nal protein has a specific 3-D structure that is important for its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protein synthesis, a mistake in the sequence of amino acids will cause the wrong protein to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46440" y="1981080"/>
            <a:ext cx="544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ckle-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a chang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amino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one of the 4 polypeptide ch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71960" y="1981080"/>
            <a:ext cx="316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electrons are shared equally, the bond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polar covalent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partial negative or positive charges in the C-H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2189160"/>
            <a:ext cx="38098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en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roteins are subjected to high temperatures, or are exposed to very acidic, basic, or salty environments, they can lose their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den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speed up (catalyze) almost every reaction that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s such as insulin act as chemical messe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such as collagen give structural support to bones, cartilage, and tend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ic acids are long chains (polymers)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 types of nucleic acids in organisms:  DNA (deoxyribonucleic acid) and RNA (ribonucleic ac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oxyribose &amp; Rib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84280" y="1981080"/>
            <a:ext cx="617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2882880"/>
            <a:ext cx="77724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46160" y="1981080"/>
            <a:ext cx="524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70200" y="609480"/>
            <a:ext cx="5403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can be polar depending on the polarity of the bonds, as well as their 3-D arrangement in the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884320"/>
            <a:ext cx="38098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are attracted to other molecules by a group of weaker force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molecula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ongest intermolecular bond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70000" y="1981080"/>
            <a:ext cx="680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riginally the chemistry of compounds produced by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organic compounds contain carbon and hydrogen, and usually other elements such as nitrogen, sulfur an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organic molecules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major groups of biologically important macromolecul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7:25Z</dcterms:created>
  <dc:creator>rubina khan</dc:creator>
  <dc:description/>
  <dc:language>en-US</dc:language>
  <cp:lastModifiedBy>rubina khan</cp:lastModifiedBy>
  <dcterms:modified xsi:type="dcterms:W3CDTF">2012-09-21T10:24:40Z</dcterms:modified>
  <cp:revision>215</cp:revision>
  <dc:subject/>
  <dc:title>Organic Chemistry</dc:title>
</cp:coreProperties>
</file>